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4D6D-95AE-42D4-B1E1-208C6F68B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E2DE-4335-4A1E-90BD-F365C889B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912A-EBF8-4D41-8B80-14B6943F0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7879-4936-48D0-99A4-8991F71EB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5E95-A207-45D6-A04A-9E8A7FD06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CA75-4A10-4D2A-8884-29C4EEDE6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0631-EADC-4997-A6B0-341E170C9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9396-5D75-4C30-979C-C0261EB76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550F-BFAE-4C79-8997-A9E3A1EB9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6784-7975-411D-A669-813F842C9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BB94-5180-4676-A3FF-6E27E2389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F35D-2DCE-4F57-A2DE-7AA492E6C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760D-A577-4E27-BC73-CE64111B0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184F-64A6-4681-BA02-5E21D7B7F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9A1D-454D-443F-937B-FE8CE2BD8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A4D-2916-44AC-AB49-C0B532DE4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64D2-A44F-4882-9C37-352F0C9D1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7228-F6CA-477C-9431-B279F5AF2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1963-9B81-4A59-BEE8-422C06284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99A-4204-4FD4-8795-B8F6D6BA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309-21BE-4864-A8E1-11346EF7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32C-4198-48D5-A508-FE8831F3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136-5272-454F-9E4F-5A9452B3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FC19-91C1-4AEC-9F1A-DF004623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F975-CD3A-4ECC-A305-0E39962B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8D0A-A72D-4EF4-944C-7190E58C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5AD0-19DD-4A4D-8211-0BDCE907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47A6-5472-4853-85A2-84D6AC28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1531-9D5C-4E36-A059-444965B2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542D-AB06-4118-91E7-E49DA3BD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8C5-651F-4B0C-B0A7-B806111A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7732-AA0D-4B58-BE8C-6E33A94F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1104-D583-479F-B6ED-DB4E8143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9C5B-62C1-4F5E-95AF-83D6DF29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CC42-F328-42E6-BAF7-C0C080F9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616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616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22A6-6474-4EEA-9B4D-C1EB4068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A42B-9E9A-4435-9FA1-790D28D0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856E-0B4F-4F75-AED2-608B0167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42B88-075F-4411-BFDF-EC9A8497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9E83-F6AD-4FBE-A9D1-8DD1EF1C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F6A0-6C00-438C-939B-DD65C1BE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AF7-ED3D-40B9-9E62-EB411BED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0D01-7399-46BC-8E2F-CF2C9908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AC01-1443-4F52-9843-83652CAA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43D6-2DC0-4FF6-8F43-916802D1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3102-5FEE-4C01-B1B8-8989CD4E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C4B2F-8754-4987-8F48-DFD0FD8E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C46D-435F-4C0C-9320-C23EC120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616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616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9C47-CD56-438B-9139-CB26BC3A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A358A-716D-424A-ABE5-480641F4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B2DCC-BA90-44A2-9591-D249725B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D826A-E300-4ED8-93A3-B697D6B1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A31-5B19-4665-A312-1A9F423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3722-6A30-42A0-8916-9CCDB516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5DA43-0181-4B1E-BF4D-A5FFD9AE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A7EF-87EE-4FC1-97C7-49667C99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65C6D-E4CF-4828-BF0F-36CD60C3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DC8E-1773-4A91-A0F0-8D2D354F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0D368-C85F-4301-BAD5-CC21A80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88CFE-CB7E-4CFA-93F1-C03965AF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B1D7B-AD71-4BC1-A9ED-68179014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616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616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35883-DE66-41BA-BFC8-A2C9AA1D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D47-8FE1-4191-B949-417C9B4B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EB5-25BE-4E27-B6E9-A89C48B1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5499-D6FB-4BAD-8EDE-05BCC489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981-1A11-4EB2-B55A-B483680B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156-37FB-45C5-B8B5-F7A27A54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06C3-5331-4002-97FD-8BC09E945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BCFE-AECB-464E-AD68-CCE764305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2D09-EEA5-4F30-9ACB-BBDB5A9AE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0042-3B74-489A-A79F-21F5D0E00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520" y="175212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Unit 6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rt 1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rwin’s Theory of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opulation Growth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economist, Malthus, published a book, noting that babies were being born faster than people were d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tated that if the human population continued to grow unchecked, sooner or later there would be insufficient living space &amp; food for every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arwin Presents His Cas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win published the results of his work in a book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 the Origin of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is book, he proposed a mechanism for evolution called 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tated that evolution has been taking place for millions of years, &amp; continues in all 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herited Variation &amp; Artifici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tificial sel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nature provided the variation, &amp; humans selected those variations that they found use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produced di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s &amp; animals b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ly breeding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different 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Natural Variation in Species"/>
          <p:cNvPicPr/>
          <p:nvPr/>
        </p:nvPicPr>
        <p:blipFill>
          <a:blip r:embed="rId1"/>
          <a:stretch/>
        </p:blipFill>
        <p:spPr>
          <a:xfrm>
            <a:off x="5715000" y="3619440"/>
            <a:ext cx="3429000" cy="3238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ruggle for exist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members of each species compete regularly to obtain food, living space, &amp; other necessities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ators that are faster &amp; better at catching prey are 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ly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Survival of the Fittest"/>
          <p:cNvPicPr/>
          <p:nvPr/>
        </p:nvPicPr>
        <p:blipFill>
          <a:blip r:embed="rId1"/>
          <a:stretch/>
        </p:blipFill>
        <p:spPr>
          <a:xfrm>
            <a:off x="4038480" y="4741920"/>
            <a:ext cx="5105520" cy="2116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tn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ability of the organism to survive &amp; reproduce in its specific envi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ness is the result of adap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ap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ny inherited characteristic that increases an organisms’ chance of survi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ful adaptations allo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s to become bet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ed to their environ. &amp; th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able to 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Walking-leaf Insect"/>
          <p:cNvPicPr/>
          <p:nvPr/>
        </p:nvPicPr>
        <p:blipFill>
          <a:blip r:embed="rId1"/>
          <a:stretch/>
        </p:blipFill>
        <p:spPr>
          <a:xfrm>
            <a:off x="6431040" y="3124080"/>
            <a:ext cx="2712960" cy="3733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s that are better suited to their environ., with adaptations that enable fitness, survive &amp; reproduce most successfully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vival of the Fit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Survival of the Fittest1"/>
          <p:cNvPicPr/>
          <p:nvPr/>
        </p:nvPicPr>
        <p:blipFill>
          <a:blip r:embed="rId1"/>
          <a:stretch/>
        </p:blipFill>
        <p:spPr>
          <a:xfrm>
            <a:off x="2514600" y="4078440"/>
            <a:ext cx="4343400" cy="2779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it is similar to artificial selection, Darwin referred to survival of the fittest a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oth AS &amp; NS, only certain individuals of a population produce new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in NS, the traits being selected, &amp; therefore, increasing over time, contribute to an organism’s fi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 takes place without human control or dir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 results in changes in the inherited characteristics of a population, that increase a species’ fitness in its envi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ime, NS produces organisms that have different structures, &amp; occupy different habit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Puzzle of Life’s Diversit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modern organisms have descended from ancient organisms (change over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 well-supported, testable explanation of phenomena that have occurred in the natur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result, species today look different from their ance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iving species has descended, with changes, from other species over time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cent with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t with modification also implies that all living organisms are related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on desc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ll species (living &amp; extinct) were derived from common ance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idence of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win argued that living things have been evolving on Earth for millions of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of this could be found: in the fossil record, the geographical distribution of living species, homologous structures of living organisms, &amp; similarities in early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idence of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ssil Reco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win noticed that the sizes, shapes, &amp; varieties of related organisms preserved in the fossil record, changed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The Fossil Record"/>
          <p:cNvPicPr/>
          <p:nvPr/>
        </p:nvPicPr>
        <p:blipFill>
          <a:blip r:embed="rId1"/>
          <a:stretch/>
        </p:blipFill>
        <p:spPr>
          <a:xfrm>
            <a:off x="1447920" y="4051440"/>
            <a:ext cx="6032520" cy="2806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idence of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phic Distribution of Living Spe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win realized that similar animals in different locations were the product of different lines of evolutionary 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idence of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ologous Body Struc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mologous stru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structures that have different mature forms but develop from the same embryonic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ll homologous structures serve importa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s of many animals are so reduced in size that they are just vestiges, or traces, of homologous org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mologous Structu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028" descr="Homologous Structures"/>
          <p:cNvPicPr/>
          <p:nvPr/>
        </p:nvPicPr>
        <p:blipFill>
          <a:blip r:embed="rId1"/>
          <a:stretch/>
        </p:blipFill>
        <p:spPr>
          <a:xfrm>
            <a:off x="0" y="1876320"/>
            <a:ext cx="9144000" cy="4702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idence of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ologous Body Struc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stigial org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may resemble miniature legs, tails, or other structures, a trace of a homologous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Ex of Vestigial Organs"/>
          <p:cNvPicPr/>
          <p:nvPr/>
        </p:nvPicPr>
        <p:blipFill>
          <a:blip r:embed="rId1"/>
          <a:stretch/>
        </p:blipFill>
        <p:spPr>
          <a:xfrm>
            <a:off x="1066680" y="4152960"/>
            <a:ext cx="6946920" cy="2705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idence of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ities in Early Develop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ly stages or embryos, of many animals with backbones are very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Similarities in Embryology"/>
          <p:cNvPicPr/>
          <p:nvPr/>
        </p:nvPicPr>
        <p:blipFill>
          <a:blip r:embed="rId1"/>
          <a:stretch/>
        </p:blipFill>
        <p:spPr>
          <a:xfrm>
            <a:off x="1447920" y="3790800"/>
            <a:ext cx="6387840" cy="3067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ummary of Darwin’s Theor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organisms differ, &amp; some of this variation is heri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sms produce more offspring than can survive, &amp; many that do survive do not re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oyage of th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gl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les Darwin contributed most to our understanding of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made observations &amp; collected evidence that led him to propose a hypothesis about the way life changes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Darwin's Voyage"/>
          <p:cNvPicPr/>
          <p:nvPr/>
        </p:nvPicPr>
        <p:blipFill>
          <a:blip r:embed="rId1"/>
          <a:stretch/>
        </p:blipFill>
        <p:spPr>
          <a:xfrm>
            <a:off x="3886200" y="4624560"/>
            <a:ext cx="5257800" cy="223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ummary of Darwin’s Theor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more organisms are produced than can survive, they compete for limited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s best suited to their environ., survive &amp; reproduce most success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ummary of Darwin’s Theor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organisms pass their heritable traits to their offsp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cess of NS causes species to change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ummary of Darwin’s Theor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alive today are descended with modification from ancestral species that lived in the distant 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cess, where diverse species evolved from common ancestors, unites all organisms on Earth into a single tree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895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Unit 6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rt 2 Spe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r more populations of individuals that can inter breed under natural conditions and produce fertile offspring.  Different species may arise from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genetic diverg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enetic Divergenc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divergence is the process whereby local individuals of a population become reproductively isolated from other individuals and thus experience changes in gene frequencies between th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environments are different between isolated units then natural selection, mutations, and genetic drift will work independently on each.  This will speed up genetic divergence and spec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olating mechanisms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s that lead to, or cause genetic divergence by preventing interbreeding between two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ong as two groups do not interbreed  their gene pools will continue to drift further and further apar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nger two species are genetically isolated from each other the more different they become from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olating mechanis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ng mechanisms can be divided into two different typ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ng mechanisms that occur before fertilization are called Prezygotic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ng mechanisms that occur after fertilization are called postzygotic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ypes of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 Prezygoti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olating mechanis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4048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havioral iso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tential mates meet but cannot figure out what to do about it because patterns of courtship may be altered to the extent that sexual union is not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8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4048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mporal iso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Time) Different groups overlap in range but may not be reproductively mature in the same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8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4048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chanical iso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tential mates attempt engagement but sperm cannot be successfully transferred .  This may be due to differences in reproductive org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ypes of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 Prezygoti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olating mechanisms cont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metic is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perm is transferred but sperm and egg are incompa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logical is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otential mates never meet because they live in different habi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oyage of th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gl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ypothesis, now supported by a large amount of evidence, has become the theory of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ypes of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Postzygotic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isolating mechanis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ygotic mort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gg is fertilized but zygote does not develop properly, dies before birth because parents are genetically incompa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ybrid invi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ybrid very weak and can’t live outside the uter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ybrid offsp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ybrid is ster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tion occurs when a species gives rise to one or more different spe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main speciation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patric spe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lopatric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patric (Allo= different, Patric=homeland) Populations are separated due to geographical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s, earthquakes, continental drift, glaciation, archipelagos cause allopatric spec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ve fis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win’s fi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elope squirrels of the Grand Can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thmus of Pan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atric (Sym = same, Patric=homeland) speciation occurs in the same geographical region without physical iso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w species can arise in a single generation if a genetic change produces a reproductive barrier between mutants and the parent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ccidents during cell division that result in extra sets of chromosomes (Polyploidy).  Self-fertilization can give rise to new individuals that are unable to mate and form fertile off-spring with the parent 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rapatric Spe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patric (Para = near, Patric=homeland) neighboring populations become distinct species while maintaining contact through Hybrid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hybrid zone is removed through increased natural selection, natural disasters or some other means the extremes of a population fail to 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ad population along the north rim of the Gr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y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ranching and unbranched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ladogene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Branched evolution. Occurs as populations split and become reproductively isolated from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nagene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Unbranched evolution.  Occurs as changes in allele frequency and morphology accumulate over long periods of time.  New species do not live within the same time peri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5105520" y="2895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"/>
          <p:cNvSpPr/>
          <p:nvPr/>
        </p:nvSpPr>
        <p:spPr>
          <a:xfrm flipV="1">
            <a:off x="59436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685800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5943600" y="2514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7238880" y="2590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7238880" y="2133720"/>
            <a:ext cx="1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7240320" y="2133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7235280" y="2971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029200" y="4648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036040" y="4343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310080" y="43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676640" y="4253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4876920" y="4876920"/>
            <a:ext cx="364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ed species are only seen in the fossil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tional For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 which are intermediate in body form between two groups of org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 that are intermediate in time in the fossi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archie2"/>
          <p:cNvPicPr/>
          <p:nvPr/>
        </p:nvPicPr>
        <p:blipFill>
          <a:blip r:embed="rId1"/>
          <a:stretch/>
        </p:blipFill>
        <p:spPr>
          <a:xfrm>
            <a:off x="4648320" y="2435400"/>
            <a:ext cx="3809880" cy="32050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5547240" y="560376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rchaeopter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00"/>
                </a:solidFill>
                <a:latin typeface="Times New Roman"/>
              </a:rPr>
              <a:t>Archaeopteryx</a:t>
            </a:r>
            <a:br>
              <a:rPr sz="4000"/>
            </a:br>
            <a:r>
              <a:rPr b="0" i="1" lang="en-US" sz="3200" spc="-1" strike="noStrike">
                <a:solidFill>
                  <a:srgbClr val="00cc00"/>
                </a:solidFill>
                <a:latin typeface="Times New Roman"/>
              </a:rPr>
              <a:t>Intermediate between birds and dinosaurs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aeopteryx lived after the development of dinosaurs but before that advent of bi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aeopteryx contains features that are both characteristic of reptilian dinosaurs as well as modern birds.  Some features are half way inbetw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457200" y="609480"/>
          <a:ext cx="8381880" cy="5396040"/>
        </p:xfrm>
        <a:graphic>
          <a:graphicData uri="http://schemas.openxmlformats.org/drawingml/2006/table">
            <a:tbl>
              <a:tblPr/>
              <a:tblGrid>
                <a:gridCol w="2171880"/>
                <a:gridCol w="1409400"/>
                <a:gridCol w="25909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e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Bi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Archaeoptery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Coelurosa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9ea8"/>
                          </a:solidFill>
                          <a:latin typeface="Times New Roman"/>
                          <a:ea typeface="ヒラギノ角ゴ Pro W3"/>
                        </a:rPr>
                        <a:t>Body cov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ea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ea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cales 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9ea8"/>
                          </a:solidFill>
                          <a:latin typeface="Times New Roman"/>
                          <a:ea typeface="ヒラギノ角ゴ Pro W3"/>
                        </a:rPr>
                        <a:t>Metatars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Partly 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Not 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9ea8"/>
                          </a:solidFill>
                          <a:latin typeface="Times New Roman"/>
                          <a:ea typeface="ヒラギノ角ゴ Pro W3"/>
                        </a:rPr>
                        <a:t>B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Hollow and pneu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Hollow, not pneu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Not hollow or pneu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9ea8"/>
                          </a:solidFill>
                          <a:latin typeface="Times New Roman"/>
                          <a:ea typeface="ヒラギノ角ゴ Pro W3"/>
                        </a:rPr>
                        <a:t>Clav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used (wishb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used (wishb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Not 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9ea8"/>
                          </a:solidFill>
                          <a:latin typeface="Times New Roman"/>
                          <a:ea typeface="ヒラギノ角ゴ Pro W3"/>
                        </a:rPr>
                        <a:t>Ster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Large, k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mall, no k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mall, no k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9ea8"/>
                          </a:solidFill>
                          <a:latin typeface="Times New Roman"/>
                          <a:ea typeface="ヒラギノ角ゴ Pro W3"/>
                        </a:rPr>
                        <a:t>Abdominal ri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tempo of spe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hyletic gradu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ew species develop slowly and gradually as an entire species changes over time. This idea was asserted by Darw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unctuated 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his theory states that new species arise suddenly and rapidly as small subpopulations of a species split from the populations of which they were a 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arwin’s Observat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win collected the preserved remains of ancient organism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s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f these fossils resembled organisms that were still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 looked unlike any creature ever s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Fossil remains of Giant Sloth"/>
          <p:cNvPicPr/>
          <p:nvPr/>
        </p:nvPicPr>
        <p:blipFill>
          <a:blip r:embed="rId1"/>
          <a:stretch/>
        </p:blipFill>
        <p:spPr>
          <a:xfrm>
            <a:off x="5486400" y="4684680"/>
            <a:ext cx="3657600" cy="2173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arwin’s Observat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lapagos Islands influenced Darwin the m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observed that the characteristics of animals &amp; plan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ed amo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the differ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Galapagos Islands"/>
          <p:cNvPicPr/>
          <p:nvPr/>
        </p:nvPicPr>
        <p:blipFill>
          <a:blip r:embed="rId1"/>
          <a:stretch/>
        </p:blipFill>
        <p:spPr>
          <a:xfrm>
            <a:off x="4343400" y="3825720"/>
            <a:ext cx="4800600" cy="3032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 Ancient, Changing Earth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tton &amp; Lyell helped scientists recognize that Earth is millions of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lso noted that the processes that changed Earth in the pa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re the same process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are changing Ear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Geological Change"/>
          <p:cNvPicPr/>
          <p:nvPr/>
        </p:nvPicPr>
        <p:blipFill>
          <a:blip r:embed="rId1"/>
          <a:stretch/>
        </p:blipFill>
        <p:spPr>
          <a:xfrm>
            <a:off x="5867280" y="4308480"/>
            <a:ext cx="3276720" cy="254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amarck’s Evolution Hypothesi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year that Darwin was born, Lamarck published his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proposed that by selective use or disuse of organs, organisms acquired or lost certain traits during their lif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ime, this process led to change in a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amarck’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Explan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Lamarck's Hypotheses"/>
          <p:cNvPicPr/>
          <p:nvPr/>
        </p:nvPicPr>
        <p:blipFill>
          <a:blip r:embed="rId1"/>
          <a:stretch/>
        </p:blipFill>
        <p:spPr>
          <a:xfrm>
            <a:off x="1523880" y="0"/>
            <a:ext cx="34862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3:19:56Z</dcterms:created>
  <dc:creator>JPS</dc:creator>
  <dc:description/>
  <dc:language>en-US</dc:language>
  <cp:lastModifiedBy>leanne</cp:lastModifiedBy>
  <cp:lastPrinted>2006-03-21T13:46:56Z</cp:lastPrinted>
  <dcterms:modified xsi:type="dcterms:W3CDTF">2010-02-15T18:13:02Z</dcterms:modified>
  <cp:revision>16</cp:revision>
  <dc:subject/>
  <dc:title>Unit 5 Evolution</dc:title>
</cp:coreProperties>
</file>